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996-9913-4264-9957-1822EE4C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094-6395-438C-9267-4002D619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422-150D-4C7E-AC38-A6DD336E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E2D-C132-4AB6-930D-FC493135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EBB-2A69-4042-8AEF-9EE5EE5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B1A-3876-4513-9CE1-F1363433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812-B7C9-4BC9-A8D0-6352F477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C25-4298-4DC8-9387-93AAB0D0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0A-05E3-4638-A1E0-A063EFD9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64B-A521-456E-9C10-D3A27CD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2FC-82B1-4E3F-9E59-36DF92A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3E1-F19E-447D-A4A6-6A677060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6F9C-B3A7-4EDD-BB0C-F56E718FE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6480" y="1219320"/>
            <a:ext cx="9156960" cy="3408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6172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aura Duf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562720" y="6149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erry McGow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1" descr=""/>
          <p:cNvPicPr/>
          <p:nvPr/>
        </p:nvPicPr>
        <p:blipFill>
          <a:blip r:embed="rId1"/>
          <a:stretch/>
        </p:blipFill>
        <p:spPr>
          <a:xfrm>
            <a:off x="-334800" y="-268200"/>
            <a:ext cx="9813600" cy="2523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0" y="39625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∆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914400" y="4038480"/>
            <a:ext cx="7170840" cy="1447920"/>
            <a:chOff x="914400" y="4038480"/>
            <a:chExt cx="7170840" cy="1447920"/>
          </a:xfrm>
        </p:grpSpPr>
        <p:sp>
          <p:nvSpPr>
            <p:cNvPr id="47" name="TextBox 7"/>
            <p:cNvSpPr/>
            <p:nvPr/>
          </p:nvSpPr>
          <p:spPr>
            <a:xfrm>
              <a:off x="914400" y="4721040"/>
              <a:ext cx="717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∆ </a:t>
              </a: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EGD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traight Connector 9"/>
            <p:cNvSpPr/>
            <p:nvPr/>
          </p:nvSpPr>
          <p:spPr>
            <a:xfrm>
              <a:off x="2886840" y="4680000"/>
              <a:ext cx="31669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2273400" y="4038480"/>
              <a:ext cx="4529160" cy="1447920"/>
            </a:xfrm>
            <a:prstGeom prst="rect">
              <a:avLst/>
            </a:prstGeom>
            <a:noFill/>
            <a:ln w="381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8"/>
          <p:cNvSpPr/>
          <p:nvPr/>
        </p:nvSpPr>
        <p:spPr>
          <a:xfrm>
            <a:off x="0" y="294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PC is equal 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602080" y="5867280"/>
            <a:ext cx="35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, G, X-IM are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1" descr=""/>
          <p:cNvPicPr/>
          <p:nvPr/>
        </p:nvPicPr>
        <p:blipFill>
          <a:blip r:embed="rId1"/>
          <a:stretch/>
        </p:blipFill>
        <p:spPr>
          <a:xfrm>
            <a:off x="-6480" y="-268200"/>
            <a:ext cx="9156960" cy="161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18288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PC is the slope of the Consumption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greater the MPC, the greater the multip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steeper the Consumption Function, the greater the multip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1419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ore we try to save, the less our ability to save would 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35053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cide as a nation to save more at all levels of GDP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Spending less at all levels of GDP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Autonomous ↓ in C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↓ Y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↓ DI 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→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Reduces ability to s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-324000" y="-268200"/>
            <a:ext cx="978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2:16Z</dcterms:created>
  <dc:creator>JWUSSLER</dc:creator>
  <dc:description/>
  <dc:language>en-US</dc:language>
  <cp:lastModifiedBy>HP Authorized Customer</cp:lastModifiedBy>
  <dcterms:modified xsi:type="dcterms:W3CDTF">2009-01-27T22:28:12Z</dcterms:modified>
  <cp:revision>7</cp:revision>
  <dc:subject/>
  <dc:title>Slide 1</dc:title>
</cp:coreProperties>
</file>